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48E-A4E1-4878-A3ED-8CAE157C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BF5-DFF8-4096-9673-C48B4E33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00D-3C9C-4455-A779-8A2FA634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C6D-430C-4A83-825C-80F5A8E5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A458-4CD9-49F2-B14D-67BEDC9D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DC28-CAB6-4BD8-9959-8B9E0AA2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6662-4A9F-46B6-804D-86505C2C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39CE-E612-40E5-B5B0-31F6495A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0DAE-C8E8-4304-A751-A34CA911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E859-3EB0-44C3-904D-0CE833A5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EC9D-B099-4A2C-BF89-566D3C0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C41-7BF2-4970-9C42-5EA5609F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3845-F912-421D-A4CD-4B9BF6C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7A04-45E8-4F80-8E08-4093A43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47BC-AF15-4954-8956-A4A399ED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CABA-70C4-466A-A6B0-C36EA7DD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4AA8-B6E5-4442-8B24-9374F7A8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64B-9773-4B13-AE6D-49439352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7B3-DCB2-4A8F-9F33-BE8F3B0C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180-BF5D-432C-B353-03A9679E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0C2-3EBC-4074-BCA4-2BE7F890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3EA-AAE1-4816-91DE-3CE5A85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BCF-F91B-4922-BADB-CD212A1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79C-D0B0-4B0B-B046-1EC4C731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3320-0430-4DCA-A398-785EA47658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DB23-CBBB-464D-8A76-52A36C6E31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prah.com/article/spirit/inspiration/20080929_oaf_oss_dpink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resentationzen.blogs.com/.shared/image.html?/photos/uncategorized/aptitude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eet Daniel Pin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9436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atch Oprah’s interview with Daniel P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362320" y="1143000"/>
            <a:ext cx="40734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4120" y="1371240"/>
            <a:ext cx="3504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0" y="28951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hum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ght-heart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71280" y="0"/>
            <a:ext cx="5024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AN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e purpose and fulfill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Aptitu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143000"/>
            <a:ext cx="62625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 Are Entering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66680" y="525780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5562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NCEPTUAL 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2800" y="824040"/>
            <a:ext cx="8258400" cy="520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28760" y="2058480"/>
            <a:ext cx="666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ving from a society built on log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ear, computer-like capabilities of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on Age to an economy and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ety built o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pathe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en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g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pabilities of the conceptual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7621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e are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365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2280" y="533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 Fundamental Aptitudes for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Verdana"/>
              </a:rPr>
              <a:t>Creat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auty and emo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76360" y="2511360"/>
            <a:ext cx="6372360" cy="388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Verdana"/>
              </a:rPr>
              <a:t>Create compelling narrativ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876920" cy="404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YMPHONY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eate part to who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PAT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erstand human nature, engage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otion and intui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3162240" cy="421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23:13:20Z</dcterms:created>
  <dc:creator> Judy Leff</dc:creator>
  <dc:description/>
  <dc:language>en-US</dc:language>
  <cp:lastModifiedBy> Judy Leff</cp:lastModifiedBy>
  <dcterms:modified xsi:type="dcterms:W3CDTF">2009-09-10T02:38:39Z</dcterms:modified>
  <cp:revision>27</cp:revision>
  <dc:subject/>
  <dc:title>Meet Daniel Pink</dc:title>
</cp:coreProperties>
</file>